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632-D8A6-4B52-9BEF-0E7C979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CB0-A69D-4147-B8A0-C478674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117-454C-47EF-A110-B8714788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9A5-E525-4B20-98D0-22704D1A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FFB-61A1-4A59-9BF5-30B9FF69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357-17FA-44A6-8775-C9186FF7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3F6-8A22-4E0C-BB84-BDB957C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07F-7296-42C1-A8D0-1F6187A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2C6-1F29-4A82-98AF-4BF67D01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374-F3CF-45E7-B4AE-BB6830A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C6E-B2E9-487C-B627-300D614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9E4-5402-4449-9F46-F7555C4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5C11-1E19-4F6C-8FDB-B895413B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oderosa_Afrodita" TargetMode="External"/><Relationship Id="rId2" Type="http://schemas.openxmlformats.org/officeDocument/2006/relationships/hyperlink" Target="http://es.wikipedia.org/wiki/The_Matrix" TargetMode="External"/><Relationship Id="rId3" Type="http://schemas.openxmlformats.org/officeDocument/2006/relationships/hyperlink" Target="http://es.wikipedia.org/wiki/La_int&#233;rprete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to de Edipo Rey es una tragedia griega, en la que vemos como una persona puede llegar a cometer los más espantosos crí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1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a Martínez Monterr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 tragedia griega se puede separar en las siguientes par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 que provoca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ios de estar implicado en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 final de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458136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 y Yocasta acaban casándose cuando Layo recuperó el t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73528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448000" cy="388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 y Yocasta tienen a su hijo Ed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4038480" cy="4565520"/>
            <a:chOff x="457200" y="1600200"/>
            <a:chExt cx="4038480" cy="4565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4038480" cy="456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nace Edipo, Layo se lo entrega a un pastor, y este se lo dio a su amo, el fue quien lo crió, se lo entrego a este pastor porque temía que se cumpliera el oráculo, en el que Apolo le anunció que terminaría muriendo en manos de s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ipo cuando es joven se entera de que Pólibo no es su verdader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se enteró decidió ir a buscar a su verdadera familia, en el camino ocurrió una disputa en la que Edipo mato a Layo, sin saber que el era su verdadero padre, aquí es donde se cumple el or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po llega finalmente a T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en tebas, Edipo acaba con la esfinge que dominaba el pueblo y se gano la mano de Yocasta, viuda de Layo, y con ella tubo 4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aso del tiempo se llega a conocer tod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47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verdad es que Edipo se ha casado con su madre, Yocasta, y que el fue quien mato a su propio padre, esto provocó que Yocasta se suicidara y que Edipo se arrancara los ojos, porque nada de lo que había vivido er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024360" cy="2692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308640"/>
            <a:ext cx="576000" cy="414360"/>
          </a:xfrm>
          <a:prstGeom prst="leftArrow">
            <a:avLst>
              <a:gd name="adj1" fmla="val 50000"/>
              <a:gd name="adj2" fmla="val 34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ículas referentes a Edipo 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emos encontrar varias películas que tienen como referente  Edipo Rey de Sóflocles. Son las siguientes entre muc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erosa Afrod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á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a Intérp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storia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529080" cy="2333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3529080" cy="25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59280" y="3938760"/>
            <a:ext cx="3600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20:33Z</dcterms:created>
  <dc:creator>WinuE</dc:creator>
  <dc:description/>
  <dc:language>en-US</dc:language>
  <cp:lastModifiedBy>WinuE</cp:lastModifiedBy>
  <dcterms:modified xsi:type="dcterms:W3CDTF">2010-04-25T15:03:23Z</dcterms:modified>
  <cp:revision>7</cp:revision>
  <dc:subject/>
  <dc:title>EDIPO REY</dc:title>
</cp:coreProperties>
</file>